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8288000" cy="102965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D794-2AEB-4E35-B8AD-F6B3D00B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595080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3932-7C49-48BB-BF3A-4DA3CEA1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934848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84E3-6D4A-431E-B8D9-C704E914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47928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044160" y="240192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647928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2044160" y="5950800"/>
            <a:ext cx="52995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8983-05DA-4B15-A532-33070740C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06E9-02DF-49CE-96F9-9EEEAD57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88DE-B436-4CF6-911E-D2BB634B3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0771-B2C8-48EE-AA09-A8228396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EF4-CF94-4049-9B68-AB1F1529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400" y="412920"/>
            <a:ext cx="16459200" cy="79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CD50-B678-4FAF-850B-F6ADCE59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8A3-DD8D-45A0-BC64-AA3CE109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348480" y="595080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462-A2E9-41D2-BB18-AEDB59FD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9348480" y="2401920"/>
            <a:ext cx="803196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5950800"/>
            <a:ext cx="16459200" cy="324072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/>
          </a:bodyPr>
          <a:p>
            <a:pPr indent="0">
              <a:spcBef>
                <a:spcPts val="1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6415-F326-4FA9-8332-3ED1062E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59200" cy="17157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1920"/>
            <a:ext cx="16459200" cy="679464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t">
            <a:normAutofit fontScale="82000"/>
          </a:bodyPr>
          <a:p>
            <a:pPr marL="562320" indent="-56232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1" marL="1218240" indent="-46872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2" marL="1874520" indent="-37476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3" marL="2624040" indent="-374760">
              <a:spcBef>
                <a:spcPts val="15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4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5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  <a:p>
            <a:pPr lvl="6" marL="3373920" indent="-374760">
              <a:spcBef>
                <a:spcPts val="15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6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9543960"/>
            <a:ext cx="426708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EDB7-EC7F-4B19-8BF2-8D25B3707175}" type="datetime">
              <a:rPr b="0" lang="en-US" sz="24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48520" y="9543960"/>
            <a:ext cx="579096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06160" y="9543960"/>
            <a:ext cx="4267080" cy="549360"/>
          </a:xfrm>
          <a:prstGeom prst="rect">
            <a:avLst/>
          </a:prstGeom>
          <a:noFill/>
          <a:ln w="0">
            <a:noFill/>
          </a:ln>
        </p:spPr>
        <p:txBody>
          <a:bodyPr lIns="182880" rIns="182880" tIns="91440" bIns="914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584E4-9940-4F7B-A5B2-07BB3F893F92}" type="slidenum">
              <a:rPr b="0" lang="en-US" sz="2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0" y="466560"/>
            <a:ext cx="18288000" cy="91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182880" tIns="91440" bIns="91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template is optimized for our widescreen displ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The critical text on your ads</a:t>
            </a:r>
            <a:br>
              <a:rPr sz="7600"/>
            </a:b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(names, dates, times, locations, etc.) </a:t>
            </a:r>
            <a:br>
              <a:rPr sz="7600"/>
            </a:br>
            <a:r>
              <a:rPr b="1" lang="en-US" sz="7600" spc="-1" strike="noStrike">
                <a:solidFill>
                  <a:srgbClr val="1f497d"/>
                </a:solidFill>
                <a:latin typeface="Arial"/>
                <a:ea typeface="Arial"/>
              </a:rPr>
              <a:t>should not be any smaller than this.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o save your file from PowerPoi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Click on the File menu or Office Button (depending on version), then “Save as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ame your file, then select JPEG or PNG from the “Format” or “Save as type” drop-down menu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144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ve your file. Remember where you saved it so you can upload it la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Please delete this text box when you are done read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18:56:44Z</dcterms:created>
  <dc:creator>Joshua Velasquez</dc:creator>
  <dc:description/>
  <dc:language>en-US</dc:language>
  <cp:lastModifiedBy>Joshua Velasquez</cp:lastModifiedBy>
  <dcterms:modified xsi:type="dcterms:W3CDTF">2010-02-04T15:39:43Z</dcterms:modified>
  <cp:revision>4</cp:revision>
  <dc:subject/>
  <dc:title>Slide 1</dc:title>
</cp:coreProperties>
</file>